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286-F59F-4D09-AA3E-BCE188BC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87C0-0527-4707-ADC8-29513DE3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80F-9340-46DD-ABD2-45D6EA34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FD0-EE6B-4F96-BA22-DB558CCC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938-BDEE-49F8-A61C-3151DE19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A2BC-C1EA-4242-A790-61FD248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2B4-B51C-43D1-8F23-F4611C45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ACA-4372-4AA1-B315-67666CB3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0F5-7E7D-4E91-93FD-D8DD017A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182-1C90-4BBA-A10B-35736688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3C9-776A-41E3-B432-2A7B67F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219-1B73-4B4B-9AB0-19EC38E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3202-8636-4719-ADC5-8C2D7BEB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404640"/>
            <a:ext cx="64008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Campb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Tiny, blo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Creative, fun, no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He likes doing puzz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My bu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386064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Ravie"/>
              </a:rPr>
              <a:t>By 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Senior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24:55Z</dcterms:created>
  <dc:creator>Admin</dc:creator>
  <dc:description/>
  <dc:language>en-US</dc:language>
  <cp:lastModifiedBy>Admin</cp:lastModifiedBy>
  <dcterms:modified xsi:type="dcterms:W3CDTF">2009-03-09T22:31:09Z</dcterms:modified>
  <cp:revision>3</cp:revision>
  <dc:subject/>
  <dc:title>Slide 1</dc:title>
</cp:coreProperties>
</file>